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959-B653-4FC4-8E30-57B54342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C07-8AE0-4582-8709-377F39E5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2FA-B780-4929-8538-C02FEE62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4CD-8E71-4ED3-917B-B79D03C4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4A4D-8036-4896-9385-0ADB65A1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CE7D-603E-42DC-90FA-694E74EE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4B38-97DF-4000-8F76-04693C8F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0DC6-A114-4404-9C39-B3933DC0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5BE5-AADF-4CFE-B3AC-BED3EE3A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1909-B650-4DCB-9885-1F2B1BBB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6E11-43AC-49EB-84D1-C8C94E38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4D3-9318-4809-B63C-91C120CD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E974-8366-4225-91E1-40F9828D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787E-82D0-4CE7-BA4C-1DF0FEF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FF58-C7C2-4BBA-BA4A-60C6ECB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9EEF-D627-4508-B165-EDC20CAC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7F94-7551-4983-81F7-D761B765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4C5-9A4C-48E6-A5E8-A67DC657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A9B-E504-4677-89B3-C8F95F33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CA7-7B13-41CE-9E82-C104DE83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F27-726B-4A0B-B57F-44699DAB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B37C-7C13-46E8-A176-91B43779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466-D9CE-4306-9F07-1627DA40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369-E001-4F6E-9D6B-4B05D6C3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B2A4-8204-4D03-BAD2-BEC78318D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69DD-B3BE-4B97-857C-C0BD0728B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acances Roumain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zea Cat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403812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mme vous le savez le roumains prefere les vacances dans la mere ou a la montagne. Ce qui se passerait si certai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trangers se visite Rouman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14600" y="762120"/>
            <a:ext cx="411480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e me suis rendu avec ma famille le Carpat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 j'ai vu paysages fascinants.Le marcher fait sur le montagne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e se compare pas à quoi que ce so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 une mere Je peux dire que le litorall Roumain est tre visite de touriste de part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a Roumanie a</a:t>
            </a: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beaucoup de beaux paysages et des monuments historiques visités par les étrang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2584440" cy="2590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28958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Ils étaient très excités à propos de ce pay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2625840"/>
            <a:ext cx="35812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Wolf</cp:lastModifiedBy>
  <dcterms:modified xsi:type="dcterms:W3CDTF">2012-12-10T20:06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